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135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13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9340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030560" y="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97588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AE139C9-8CE5-4AED-9596-40685529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EA163CC-597C-4B59-8460-847263CCB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B4C8430-23DC-49C1-8A16-27FC42618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acronym stan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some background history related to MITRE overview whit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seeking to formalize?  (validation, versioning, extensibility, ad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6B4F08F-171A-4DB5-916B-D031F33B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C943851-FA26-42CA-AAE5-413389B7E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EFDA003-8B23-4145-911E-9D21F078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8F9635E-E7E3-48AF-8D3F-3000B1DE0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 provides enough information to distinguish one remediation from another (i.e., yes, this is the remediation I am interested in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 provides additional information – possible references, preconditions, known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5D0F3CC-2231-42D3-A07F-4BDD0EFC6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608-8456-4AD5-8DBA-596C7147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9EC-975F-4FFA-947E-84461993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B66-B083-4738-AB48-ECEAD593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341-2131-45D6-B14B-D0768E84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0822-2E17-4606-B60E-794C3544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0EB5-782F-4CDA-8F59-FF1AF083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E5E0-9ED3-4508-BDF2-96F897D3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9513-0EAC-4AAB-9774-2037B02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81D0-899E-4368-8C25-735B5F75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29F6-FF99-44EC-B64E-7E1290D5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8A2C-64A0-4CD7-A802-72355CFB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CE7-9501-4499-8D1B-F3567EF9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7008-01A6-4D00-B7D2-FEBEEC19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B7DD-8EC5-4145-BAD6-38EED6DD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E6BC-047F-4454-8431-8F0E517E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CB9C-0A10-4A0B-A8F1-5AD0D8C8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C148-FD24-4C9B-9B32-03A81FA2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F90-177D-4A06-A2C3-4101AA60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A07-A567-4124-9C1D-909AD7DB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234-6E48-4A13-8F96-0CE24274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845-256E-4ACA-8BE4-086CDFE9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D90-8346-4C91-A155-93BDCC7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5B0-1B71-4F24-919E-1A6C4F8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670-11B6-4B4C-BBCE-BB45D41E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1905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935A-E7E2-4A75-B09B-E8AD450A56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4344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7650-6C5A-4551-82EF-D5D72EE04A58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istBlue"/>
          <p:cNvPicPr/>
          <p:nvPr/>
        </p:nvPicPr>
        <p:blipFill>
          <a:blip r:embed="rId2"/>
          <a:stretch/>
        </p:blipFill>
        <p:spPr>
          <a:xfrm>
            <a:off x="8001000" y="152280"/>
            <a:ext cx="9907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1447920" y="5562720"/>
            <a:ext cx="624816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8" descr="nistBlue"/>
          <p:cNvPicPr/>
          <p:nvPr/>
        </p:nvPicPr>
        <p:blipFill>
          <a:blip r:embed="rId2"/>
          <a:stretch/>
        </p:blipFill>
        <p:spPr>
          <a:xfrm>
            <a:off x="3886200" y="5791320"/>
            <a:ext cx="11430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1981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5CBE-2A9E-409F-9217-7F955076FE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19360" y="6248520"/>
            <a:ext cx="4268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A3D5-B13E-4892-BD2D-6B9295DBE4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id.waltermire@nist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Security Automation Developer Day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June 14-16, 2010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ris Johns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e National Institute of Standards and Technology (NIS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4040" y="1572480"/>
            <a:ext cx="79038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nterprise Remediation Automation Protocol (ERAP)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Other Activ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alidation strateg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endor outreach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ing of identifi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a trust mod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81280" y="652320"/>
            <a:ext cx="72288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Christopher Johns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ristopher.johnson@nist.gov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Arial"/>
              </a:rPr>
              <a:t>(301) 975-598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540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RAP components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Use C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apabil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 Su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omponent Specifications Roadmap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2240" y="510120"/>
            <a:ext cx="46947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What is ERAP?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individually maintained, community developed, open specifications to provide a standardized approach to maintaining the security of enterprise syste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pecifications establish conventions for identifying, describing and orchestrating remediation actions for the enterpri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P defines how these specification are used in concert to deliver capabilities to the security automation commun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standardized reference data -- ERAP Cont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0"/>
          <p:cNvSpPr/>
          <p:nvPr/>
        </p:nvSpPr>
        <p:spPr>
          <a:xfrm>
            <a:off x="304920" y="685800"/>
            <a:ext cx="8610480" cy="5562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4572000" y="1295280"/>
            <a:ext cx="2819520" cy="48006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00600"/>
              <a:gd name="textAreaBottom" fmla="*/ 4663080 h 480060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600200" y="1295280"/>
            <a:ext cx="2971800" cy="48006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800600"/>
              <a:gd name="textAreaBottom" fmla="*/ 4655520 h 4800600"/>
            </a:gdLst>
            <a:ahLst/>
            <a:rect l="textAreaLeft" t="textAreaTop" r="textAreaRight" b="textAreaBottom"/>
            <a:pathLst>
              <a:path w="21600" h="34891">
                <a:moveTo>
                  <a:pt x="3600" y="0"/>
                </a:moveTo>
                <a:arcTo wR="3600" hR="3600" stAng="16200000" swAng="-5400000"/>
                <a:lnTo>
                  <a:pt x="0" y="31291"/>
                </a:lnTo>
                <a:arcTo wR="3600" hR="3600" stAng="10800000" swAng="-5400000"/>
                <a:lnTo>
                  <a:pt x="18000" y="3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9393"/>
          </a:solidFill>
          <a:ln w="93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3960" y="3816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RAP Components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800" y="320040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hine readable X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resul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chestrate remedi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e machine st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 Polic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66720" y="3276360"/>
            <a:ext cx="3124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e remediation a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lemental remediation dat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exchange forma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5120" y="152388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ns of expr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ructions/Resul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0" y="1523880"/>
            <a:ext cx="2819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tions for identifying and describ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533520" y="1600200"/>
            <a:ext cx="3733560" cy="495288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952880"/>
              <a:gd name="textAreaBottom" fmla="*/ 4770720 h 495288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85800"/>
            <a:ext cx="84582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of community developed spec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Use Cas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1752480"/>
            <a:ext cx="8077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AP Use Ca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omprehens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ll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elect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 subset of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ndependent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apply one or more remediations to one or more computing assets regardless of their current stat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05120" y="1828800"/>
          <a:ext cx="5243400" cy="3817800"/>
        </p:xfrm>
        <a:graphic>
          <a:graphicData uri="http://schemas.openxmlformats.org/drawingml/2006/table">
            <a:tbl>
              <a:tblPr/>
              <a:tblGrid>
                <a:gridCol w="1168200"/>
                <a:gridCol w="1484280"/>
                <a:gridCol w="25909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Remediation Enum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stablishes a common name and basic information about the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xtended Remedi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tains supplemental information about a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Control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vention for asserting which remediations are to be applied to specific 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Policy Languag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bility to constrain remediation by asset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format for reporting the results of an attempted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V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pen Vulnerability Remediation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Language for expressing the low level remediation 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Oval 16"/>
          <p:cNvSpPr/>
          <p:nvPr/>
        </p:nvSpPr>
        <p:spPr>
          <a:xfrm>
            <a:off x="609480" y="1828800"/>
            <a:ext cx="2210040" cy="129528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Naming &amp; Describ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09480" y="4952880"/>
            <a:ext cx="2210040" cy="685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_x0012_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Remedia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09480" y="4343400"/>
            <a:ext cx="2210040" cy="631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91200" y="204840"/>
            <a:ext cx="44661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apabil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609480" y="3124080"/>
            <a:ext cx="2210040" cy="121932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 Suit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 will work with the community to develop a set of publications describing these enterprise remediation capabilities.  These publications will be hosted on the NIST Computer Security Resource Center (CSRC) websi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Component Spec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Data Exchange Form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omponent Specifications Roadmap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Component Specification Roadmap (DRAFT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0: CRE, ERI, Policy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1: Control Language, Resul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2: Remediation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4:41Z</dcterms:created>
  <dc:creator/>
  <dc:description/>
  <cp:keywords/>
  <dc:language>en-US</dc:language>
  <cp:lastModifiedBy>sboczeno</cp:lastModifiedBy>
  <cp:lastPrinted>2009-04-22T19:24:48Z</cp:lastPrinted>
  <dcterms:modified xsi:type="dcterms:W3CDTF">2010-06-08T17:15:32Z</dcterms:modified>
  <cp:revision>1052</cp:revision>
  <dc:subject/>
  <dc:title>Security Content Automation Protocol and What It Means to Informat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